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7C429-21C5-4B10-9CB0-717B90CAE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1F6A-B1E0-4E88-988D-B68545F9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731C1-D801-40BA-A31F-08854E186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E526D-65CB-4F12-9056-922A94FF4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053A3-4F64-4948-A3E0-7364FE8D9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1D25B-7483-4DFE-952C-561308B3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6263C-C9F9-4859-8163-71A850728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54131-B558-4E88-8896-3344CDFAF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D529E-E7A1-470D-81D1-5F2A94070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FB7C-0FF4-436B-AEA8-CA1FB67FB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9635-4294-415B-9B24-CE963CAFA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F9588-AC69-41E0-8434-6E8E4AF17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C447-778D-410C-8F8D-1C1DC824E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739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goal:  Show what you have learned in German so f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to create some sort of presentation about your likes and dislikes and the likes and dislikes of your friends.  You must write about yourself and your “friends”.  Your friends </a:t>
            </a:r>
            <a:r>
              <a:rPr b="1" i="1" lang="en-US" sz="1800" spc="-1" strike="noStrike" u="sng">
                <a:solidFill>
                  <a:srgbClr val="000000"/>
                </a:solidFill>
                <a:uFillTx/>
                <a:latin typeface="Arial"/>
              </a:rPr>
              <a:t>may not</a:t>
            </a:r>
            <a:r>
              <a:rPr b="0" lang="en-US" sz="1800" spc="-1" strike="noStrike">
                <a:solidFill>
                  <a:srgbClr val="000000"/>
                </a:solidFill>
                <a:latin typeface="Arial"/>
              </a:rPr>
              <a:t> be real people, but rather characters from books, movies, tv programs, sports teams, or music groups.  All of your “friends” must be from the same book, movie, tv show, etc.  You can tell me real information about yourself or y</a:t>
            </a:r>
            <a:r>
              <a:rPr b="1" i="1" lang="en-US" sz="1800" spc="-1" strike="noStrike">
                <a:solidFill>
                  <a:srgbClr val="000000"/>
                </a:solidFill>
                <a:latin typeface="Arial"/>
              </a:rPr>
              <a:t>ou</a:t>
            </a:r>
            <a:r>
              <a:rPr b="0" lang="en-US" sz="1800" spc="-1" strike="noStrike">
                <a:solidFill>
                  <a:srgbClr val="000000"/>
                </a:solidFill>
                <a:latin typeface="Arial"/>
              </a:rPr>
              <a:t> can even be a made up character, as long as you are from the same book, movie, etc.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pretty much free reign on how you complete the project. It can be a written composition, a PowerPoint presentation, a dialogue, a play, a puppet show, a poster, a letter, or anything else which you think is appropriate. However, I do have veto power on the manner of the delivery. And it must be presented or read to the class so that I can judge not only your grammar skills, but also your pronunciation.  YOU SHOULD NOT USE GOOGLE TO TRANSLATE, BUT RATHER USE WHAT YOU HAVE LEAR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work on this project mostly in class.  You have 3 class periods in the computer lab.  If you are working on it at home, please make sure that you bring in a flash drive to access it at home. You must have pictures or props which relate to at least some of what you are wri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py must be legible (no crossed out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be graded at least 10 points per preparation day (total 30 points).  You will lose points if I have to speak to you about behavior or work eth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show me your work everyday, so that I can judge progres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92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s that need to be included on/in the project are (in no particular order):  </a:t>
            </a:r>
            <a:endParaRPr b="0" lang="en-US" sz="16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a hello or a good-by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one introduced by name.  (I am, he i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number from 0 - 10 written out in word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animal</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ctivities that you or another likes to do (use gern)</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ctivities that you or another don’t like to do (use nicht gern)</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yes or no question OR a question word question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ther how are you (this doesn’t count as your question) or an example of formal/informal</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jective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ntence in first person (I)</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ntence in third person (he or sh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PRINT ANYTHING, THOUGH, UNTIL YOU CLEAR IT WITH M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receive points for completing all the requirement, but you receive maximum scores if you do more than what is requir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4442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hi light or underline each of the requirements.  You must also number your  requirements on your sheet. If you are using formal/informal you must write an explanation of why you used i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 hello or a good-by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omeone introduced by name.  (I am, he i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 number from 0 - 10 written out in wor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one anima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an activity that you or another likes to do (using ger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an activity that you or another likes to do (using ger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an activity that you or another don’t like to do (using nicht ger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 an activity that you or another don’t like to do (using nicht ger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a yes or no question OR a question word ques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a:solidFill>
                  <a:srgbClr val="000000"/>
                </a:solidFill>
                <a:latin typeface="Arial"/>
              </a:rPr>
              <a:t>	</a:t>
            </a:r>
            <a:r>
              <a:rPr b="0" lang="en-US" sz="1200" spc="-1" strike="noStrike">
                <a:solidFill>
                  <a:srgbClr val="000000"/>
                </a:solidFill>
                <a:latin typeface="Arial"/>
              </a:rPr>
              <a:t>either how are you (this doesn’t count as your question) or an example of formal/informal (TELL ME WH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an adjectiv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a sentence in first person (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r>
              <a:rPr b="0" lang="en-US" sz="1200" spc="-1" strike="noStrike">
                <a:solidFill>
                  <a:srgbClr val="000000"/>
                </a:solidFill>
                <a:latin typeface="Arial"/>
              </a:rPr>
              <a:t>	</a:t>
            </a:r>
            <a:r>
              <a:rPr b="0" lang="en-US" sz="1200" spc="-1" strike="noStrike">
                <a:solidFill>
                  <a:srgbClr val="000000"/>
                </a:solidFill>
                <a:latin typeface="Arial"/>
              </a:rPr>
              <a:t>a sentence in third person (he or she)</a:t>
            </a:r>
            <a:endParaRPr b="0" lang="en-US" sz="1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entences might fulfill more than one requirement.  Be sure to label it as such.</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9:38:41Z</dcterms:created>
  <dc:creator>udsd</dc:creator>
  <dc:description/>
  <dc:language>en-US</dc:language>
  <cp:lastModifiedBy>udsd</cp:lastModifiedBy>
  <dcterms:modified xsi:type="dcterms:W3CDTF">2012-02-16T15:58:46Z</dcterms:modified>
  <cp:revision>12</cp:revision>
  <dc:subject/>
  <dc:title>Slide 1</dc:title>
</cp:coreProperties>
</file>